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AE8B-17DD-4270-B4E0-5E0396E321E1}" type="slidenum">
              <a:rPr b="0" lang="ar-J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J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B359-52B4-4B30-85C3-7896B5B1B94D}" type="slidenum">
              <a:rPr b="0" lang="ar-J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J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30DC-2F13-4709-BAFE-673B9F3DD58B}" type="slidenum">
              <a:rPr b="0" lang="ar-J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CBB5-6F82-4344-892E-FF966679DC5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60B3-574B-40D5-B91C-A191C4D9E45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CD63-182E-44E2-B2CD-E78985A9797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9CED-779A-43F6-B62C-4BBD27D36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DDD5-D47B-4D4D-AB03-68912C3A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2509-3624-4084-8183-F67CA13E4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28DB-742C-4AE0-90D0-232420FE2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3501-3883-459E-AA66-08D877AA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8C37-FF7C-4567-AD50-7C1A0C7D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EE44-6409-4474-86F2-91932D0D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09D1-0F71-4DCD-8023-D5192D96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1A2A-497A-4BE3-ABE0-C1793B4D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C2B5-EE8E-4A42-98C4-7DAA8E5B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9B96-8821-4836-A965-ECECC6BA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4A83-F5FD-4E18-9CE6-2459412A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DDB8-E01C-4E92-A153-949AB2EE0DD7}" type="datetime">
              <a:rPr b="0" lang="ar-JO" sz="1200" spc="-1" strike="noStrike">
                <a:solidFill>
                  <a:srgbClr val="898989"/>
                </a:solidFill>
                <a:latin typeface="Calibri"/>
              </a:rPr>
              <a:t>١٤٤٨/٠٢/١٧</a:t>
            </a:fld>
            <a:r>
              <a:rPr b="0" lang="ar-JO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EEF0DE1-0732-47AF-A50E-D721FEB89542}" type="datetime10">
              <a:rPr b="0" lang="ar-JO" sz="1200" spc="-1" strike="noStrike">
                <a:solidFill>
                  <a:srgbClr val="898989"/>
                </a:solidFill>
                <a:latin typeface="Calibri"/>
              </a:rPr>
              <a:t>02:5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524B-550D-4ABE-85F7-B61C180A14CF}" type="slidenum">
              <a:rPr b="0" lang="ar-J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57232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i="1" lang="ar-JO" sz="1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071880"/>
            <a:ext cx="78580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by</a:t>
            </a:r>
            <a:br>
              <a:rPr sz="3000"/>
            </a:br>
            <a:r>
              <a:rPr b="0" lang="en-US" sz="2200" spc="-1" strike="noStrike">
                <a:solidFill>
                  <a:srgbClr val="002060"/>
                </a:solidFill>
                <a:latin typeface="Andalus"/>
                <a:ea typeface="Andalus"/>
              </a:rPr>
              <a:t>Dr. Jamal Abu Saif</a:t>
            </a:r>
            <a:br>
              <a:rPr sz="3300"/>
            </a:br>
            <a:br>
              <a:rPr sz="3000"/>
            </a:b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MD, Arab Board in Community Medicine</a:t>
            </a:r>
            <a:br>
              <a:rPr sz="2200"/>
            </a:b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Director of Technical Affairs and Stud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NHA Project Manage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High Health Council - HHC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Amman-Jorda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142920" y="285840"/>
            <a:ext cx="885816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olicy Implementation: Experiences from Jordan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2" descr="شعار المجلس "/>
          <p:cNvPicPr/>
          <p:nvPr/>
        </p:nvPicPr>
        <p:blipFill>
          <a:blip r:embed="rId1"/>
          <a:stretch/>
        </p:blipFill>
        <p:spPr>
          <a:xfrm>
            <a:off x="3500280" y="42876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468360" y="642960"/>
            <a:ext cx="8136000" cy="55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Content Placeholder 3" descr=""/>
          <p:cNvPicPr/>
          <p:nvPr/>
        </p:nvPicPr>
        <p:blipFill>
          <a:blip r:embed="rId1"/>
          <a:stretch/>
        </p:blipFill>
        <p:spPr>
          <a:xfrm>
            <a:off x="281160" y="633240"/>
            <a:ext cx="8412120" cy="5499360"/>
          </a:xfrm>
          <a:prstGeom prst="rect">
            <a:avLst/>
          </a:prstGeom>
          <a:ln w="0">
            <a:noFill/>
          </a:ln>
        </p:spPr>
      </p:pic>
      <p:sp>
        <p:nvSpPr>
          <p:cNvPr id="70" name="Straight Connector 5"/>
          <p:cNvSpPr/>
          <p:nvPr/>
        </p:nvSpPr>
        <p:spPr>
          <a:xfrm flipH="1">
            <a:off x="3143160" y="5000040"/>
            <a:ext cx="1571760" cy="571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traight Connector 7"/>
          <p:cNvSpPr/>
          <p:nvPr/>
        </p:nvSpPr>
        <p:spPr>
          <a:xfrm flipH="1">
            <a:off x="4071960" y="5285520"/>
            <a:ext cx="714240" cy="42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14200" y="1500120"/>
          <a:ext cx="8715600" cy="4430880"/>
        </p:xfrm>
        <a:graphic>
          <a:graphicData uri="http://schemas.openxmlformats.org/drawingml/2006/table">
            <a:tbl>
              <a:tblPr/>
              <a:tblGrid>
                <a:gridCol w="1658880"/>
                <a:gridCol w="2374920"/>
                <a:gridCol w="2503800"/>
                <a:gridCol w="2178000"/>
              </a:tblGrid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Coun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THE as  percentage  of GD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Per capita health </a:t>
                      </a:r>
                      <a:r>
                        <a:rPr b="1" lang="ar-JO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exp (US </a:t>
                      </a:r>
                      <a:r>
                        <a:rPr b="1" lang="en-US" sz="24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Public exp on health as percentage of T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rd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ba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y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nis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864396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oss-country comparison of NHA indicators WHO regional Health Observatory,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er capita health care spending (JD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Jordan NHA 2007-201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hart 4" descr=""/>
          <p:cNvPicPr/>
          <p:nvPr/>
        </p:nvPicPr>
        <p:blipFill>
          <a:blip r:embed="rId1"/>
          <a:stretch/>
        </p:blipFill>
        <p:spPr>
          <a:xfrm>
            <a:off x="0" y="0"/>
            <a:ext cx="8862840" cy="66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572320" cy="785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ribution of HH Exp. By public and priv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643040" y="1143000"/>
            <a:ext cx="5929200" cy="4500720"/>
          </a:xfrm>
          <a:prstGeom prst="rect">
            <a:avLst/>
          </a:prstGeom>
          <a:ln w="0">
            <a:noFill/>
          </a:ln>
        </p:spPr>
      </p:pic>
      <p:sp>
        <p:nvSpPr>
          <p:cNvPr id="78" name="TextBox 6"/>
          <p:cNvSpPr/>
          <p:nvPr/>
        </p:nvSpPr>
        <p:spPr>
          <a:xfrm>
            <a:off x="785880" y="5786280"/>
            <a:ext cx="72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alth Insurance coverage rate is 72%  ( without duplicat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reakdown of OOP Health Expenditure in the Private Health Sector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Chart 6" descr=""/>
          <p:cNvPicPr/>
          <p:nvPr/>
        </p:nvPicPr>
        <p:blipFill>
          <a:blip r:embed="rId1"/>
          <a:stretch/>
        </p:blipFill>
        <p:spPr>
          <a:xfrm>
            <a:off x="1779480" y="1494000"/>
            <a:ext cx="522468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rug expenditure as percent of GDP 2007-201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Chart 3" descr=""/>
          <p:cNvPicPr/>
          <p:nvPr/>
        </p:nvPicPr>
        <p:blipFill>
          <a:blip r:embed="rId1"/>
          <a:stretch/>
        </p:blipFill>
        <p:spPr>
          <a:xfrm>
            <a:off x="0" y="0"/>
            <a:ext cx="8790120" cy="66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 capita spending on drugs (JD) 2007-2011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Chart 3" descr=""/>
          <p:cNvPicPr/>
          <p:nvPr/>
        </p:nvPicPr>
        <p:blipFill>
          <a:blip r:embed="rId1"/>
          <a:stretch/>
        </p:blipFill>
        <p:spPr>
          <a:xfrm>
            <a:off x="0" y="0"/>
            <a:ext cx="8150400" cy="600408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428760" y="59292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Drug Exp. US$ 605 Million 27% of THE (36% OF THE in 2001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8920" y="304920"/>
            <a:ext cx="8659800" cy="963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ublic Expenditures by Function 2009-2011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2280" y="1357200"/>
          <a:ext cx="8763120" cy="5175360"/>
        </p:xfrm>
        <a:graphic>
          <a:graphicData uri="http://schemas.openxmlformats.org/drawingml/2006/table">
            <a:tbl>
              <a:tblPr/>
              <a:tblGrid>
                <a:gridCol w="1206720"/>
                <a:gridCol w="1116000"/>
                <a:gridCol w="1116000"/>
                <a:gridCol w="1117440"/>
                <a:gridCol w="1116000"/>
                <a:gridCol w="1149480"/>
                <a:gridCol w="1941480"/>
              </a:tblGrid>
              <a:tr h="351000">
                <a:tc gridSpan="2"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6600" rIns="66600" tIns="0" bIns="0" anchor="ctr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</a:t>
                      </a:r>
                      <a:r>
                        <a:rPr b="1" lang="ar-JO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سن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a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نفاق الصحي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Exp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5000"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ar-JO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نفا</a:t>
                      </a: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نفا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نفا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24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4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8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5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8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رعاية العلاجي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spital Ca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رعاية الأولي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6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دارة والخدمات المساند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min. &amp; Servic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تدريب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ining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 Research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أخرى</a:t>
                      </a: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hers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مجموع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  Public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Straight Connector 5"/>
          <p:cNvSpPr/>
          <p:nvPr/>
        </p:nvSpPr>
        <p:spPr>
          <a:xfrm flipV="1">
            <a:off x="7000920" y="1499760"/>
            <a:ext cx="1900080" cy="17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7315200" y="6324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3886200" y="654696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HA Technical Reports, HHC-Jord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Rectangle 2"/>
          <p:cNvGrpSpPr/>
          <p:nvPr/>
        </p:nvGrpSpPr>
        <p:grpSpPr>
          <a:xfrm>
            <a:off x="396720" y="590400"/>
            <a:ext cx="7661520" cy="702000"/>
            <a:chOff x="396720" y="590400"/>
            <a:chExt cx="7661520" cy="702000"/>
          </a:xfrm>
        </p:grpSpPr>
        <p:pic>
          <p:nvPicPr>
            <p:cNvPr id="93" name="Rectangle 2" descr=""/>
            <p:cNvPicPr/>
            <p:nvPr/>
          </p:nvPicPr>
          <p:blipFill>
            <a:blip r:embed="rId1"/>
            <a:stretch/>
          </p:blipFill>
          <p:spPr>
            <a:xfrm>
              <a:off x="396720" y="590400"/>
              <a:ext cx="7661520" cy="70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57200" y="685800"/>
              <a:ext cx="75438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Uses of National Health Accounts (NHA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and planning too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ing health care financing &amp; expendi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cus on resource allocation and allocative efficienc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ilitate evidence-based decision mak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insight when dealing with insurance sect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Vi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distinguished healthcare system within an integrated health sector that achieves an outstanding status for the kingdom on the health world map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786880" cy="3682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pdating th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National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Agenda of the health secto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2005 -2017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Prime Minister has formed four committe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Minister of planning is the head of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0b050"/>
                </a:solidFill>
                <a:latin typeface="Calibri"/>
              </a:rPr>
              <a:t>ministerial committee of all sectors in the country</a:t>
            </a:r>
            <a:r>
              <a:rPr b="0" lang="en-US" sz="2700" spc="-1" strike="noStrike">
                <a:solidFill>
                  <a:srgbClr val="00b05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SG of the Ministry of Planning is the head of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sectoral coordination committee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HHC-SG is a member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head of </a:t>
            </a:r>
            <a:r>
              <a:rPr b="1" lang="en-US" sz="2700" spc="-1" strike="noStrike">
                <a:solidFill>
                  <a:srgbClr val="c00000"/>
                </a:solidFill>
                <a:latin typeface="Calibri"/>
              </a:rPr>
              <a:t>health sector committee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s the HHC-S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technical committee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as formed at HHC and was reporting to HHC-SG  (NA : updated 2013-2022 after preparing  a progress report on the achievements of  the national agenda interventions ( up to 2012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HHC in collaboration with health and health related partners: MOH, RMS, JNC,UHs, HPC, JHA, JFDA, GDCD, …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1928880" y="214200"/>
            <a:ext cx="5286240" cy="928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Prime Minister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2000160" y="1571760"/>
            <a:ext cx="5143680" cy="92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inister of 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inisterial committee of all sectors in the coun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2143080" y="2928960"/>
            <a:ext cx="4929120" cy="928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SG of the Ministry of 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toral coordination 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714760" y="4286160"/>
            <a:ext cx="3857400" cy="928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HC-S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ealth sector 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3143160" y="5643720"/>
            <a:ext cx="3000600" cy="92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HC Technical Dire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echnical 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3" name="Straight Arrow Connector 12"/>
          <p:cNvCxnSpPr>
            <a:stCxn id="98" idx="2"/>
            <a:endCxn id="99" idx="0"/>
          </p:cNvCxnSpPr>
          <p:nvPr/>
        </p:nvCxnSpPr>
        <p:spPr>
          <a:xfrm flipH="1">
            <a:off x="4570200" y="1142640"/>
            <a:ext cx="3600" cy="4294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4" name="Straight Arrow Connector 13"/>
          <p:cNvCxnSpPr/>
          <p:nvPr/>
        </p:nvCxnSpPr>
        <p:spPr>
          <a:xfrm flipH="1">
            <a:off x="4571640" y="2499840"/>
            <a:ext cx="2160" cy="4294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5" name="Straight Arrow Connector 14"/>
          <p:cNvCxnSpPr/>
          <p:nvPr/>
        </p:nvCxnSpPr>
        <p:spPr>
          <a:xfrm flipH="1">
            <a:off x="4570200" y="3857760"/>
            <a:ext cx="2160" cy="4291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6" name="Straight Arrow Connector 15"/>
          <p:cNvCxnSpPr/>
          <p:nvPr/>
        </p:nvCxnSpPr>
        <p:spPr>
          <a:xfrm flipH="1">
            <a:off x="4570200" y="5214600"/>
            <a:ext cx="2160" cy="4294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333360"/>
            <a:ext cx="7554960" cy="10843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in Health Sect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Goals-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ational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genda 20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ing health care services in accordance with international standar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engthening public-private partnership in order to create a  distinguished healthcare system based on integration, and to limit waste and duplic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ing health system perform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ing health insurance coverage to all citize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mit the prevalence of NC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auses of mortality in Jord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Chart 23624" descr=""/>
          <p:cNvPicPr/>
          <p:nvPr/>
        </p:nvPicPr>
        <p:blipFill>
          <a:blip r:embed="rId1"/>
          <a:stretch/>
        </p:blipFill>
        <p:spPr>
          <a:xfrm>
            <a:off x="428760" y="1071720"/>
            <a:ext cx="8358120" cy="5143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785880" y="5572080"/>
            <a:ext cx="1214280" cy="36828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-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143080" y="5572080"/>
            <a:ext cx="1143000" cy="3682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an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500280" y="5572080"/>
            <a:ext cx="1357560" cy="36828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ccid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5072040" y="5572080"/>
            <a:ext cx="1143000" cy="3682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nfectio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6286680" y="5572080"/>
            <a:ext cx="1285560" cy="368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0040" y="380520"/>
            <a:ext cx="8215200" cy="7621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ving towards comprehensive Health Insu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2920" y="1714320"/>
            <a:ext cx="8786880" cy="4609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50000"/>
              </a:lnSpc>
              <a:spcBef>
                <a:spcPts val="700"/>
              </a:spcBef>
              <a:buClr>
                <a:srgbClr val="320e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Providing all people with access to needed health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00">
              <a:lnSpc>
                <a:spcPct val="150000"/>
              </a:lnSpc>
              <a:spcBef>
                <a:spcPts val="700"/>
              </a:spcBef>
              <a:buClr>
                <a:srgbClr val="320e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Reviving primary health care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00">
              <a:lnSpc>
                <a:spcPct val="150000"/>
              </a:lnSpc>
              <a:spcBef>
                <a:spcPts val="700"/>
              </a:spcBef>
              <a:buClr>
                <a:srgbClr val="320e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Controlling health care c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00">
              <a:lnSpc>
                <a:spcPct val="150000"/>
              </a:lnSpc>
              <a:spcBef>
                <a:spcPts val="700"/>
              </a:spcBef>
              <a:buClr>
                <a:srgbClr val="320e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Utilizing scarce resources efficient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6840" y="1714320"/>
            <a:ext cx="8458200" cy="44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ity in accessing affordable health care serv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ing the financial protection of the people and protecting households from facing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mpoverish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tastrophic health expenditur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ssible and affordable serv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asing households’ expenditures on heal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4251240" y="874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4200" y="571680"/>
            <a:ext cx="8501040" cy="947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towards comprehensive Health Insu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7858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in HHC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alth Ma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dical responsibility la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tional agenda 202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HSs (NHS, NHS for health communication, NHS for the elderly, RHAP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uman Resources for Health observat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rveys and studies such as: health insurance and OOP spending, availability of drugs at facility level and from HH perspectives,, and FFC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in HHC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85480" y="1413000"/>
            <a:ext cx="86439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ational surveys, studies, technical reports and policy briefs, such a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ealth insurance coverage and health exp. surve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istribution of health care payments and FFC stud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H and facility survey on availability and pricing of drug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udy on corruption in health secto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licy brief on HRH- Jordan’s coordination and facilitation policy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licy brief on retention of MOH physicians in remote underserved area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ational Health Accounts NHA annual technical repor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356760"/>
            <a:ext cx="8610480" cy="714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ture HHC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ysis of studying medical sciences and setting  recommendations to address market nee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king the incentive system of the public employees with the performance indica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dical ethics in conducting experimental clinical trials in Jord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ding national capacity on Costing of health care services (refugees, contracting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7855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ture HHC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r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dopting certificate of need to control capital expenditure in health care services, &amp; limit the unnecessary expansion of these servic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r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pporting and improving primary healthcare servic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suring equity in access to affordable  healthcare focusing on the poor, disabled, and other high risk categori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r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tting national clinical practice guidelin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0" algn="just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accreditation, medical tourism, Medical liabilit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Mission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 draw up integrated health polici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the participation wit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ll health sector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in the kingdom; so as to ensure the provision of distinguished healthcare services with a noble humanitarian goal within a sound health economy that strengthens Jordan’s leading position in the field of healthc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7848720" cy="885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 Causes of health care system inefficiencie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1428480"/>
            <a:ext cx="85345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lth System Fragment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>
              <a:lnSpc>
                <a:spcPct val="140000"/>
              </a:lnSpc>
              <a:spcBef>
                <a:spcPts val="4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Radical change  was failed in 1988 (combing MOH and RM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rrational use of Medicine and Health Technolo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>
              <a:lnSpc>
                <a:spcPct val="14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HHC strategy on Dug Rationalization 2012-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>
              <a:lnSpc>
                <a:spcPct val="140000"/>
              </a:lnSpc>
              <a:spcBef>
                <a:spcPts val="4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MeTA Project – JFDA ( availability, accessibility and affordability of drug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adequate financial and other incentives prevalent in the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>
              <a:lnSpc>
                <a:spcPct val="14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Absence of performance based incentives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icy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the process of turning policy into pract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Are Policy Formulation and Implementation interdependent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If yes, should policy initiators consider them in combina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6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allenges Facing HHC and policy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14200" y="1428840"/>
            <a:ext cx="87868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mited financial resources allocated for national health projects, health policy research, and health policy analys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ck of updated information and statistics needed for health policy formul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cy research and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ck of monitoring and evaluation capacity in the area of health policies 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(Evaluation is crucial for policy improvement or policy termin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6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allenges Facing HHC and policy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14200" y="1571400"/>
            <a:ext cx="87868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turnover of Governments which affect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ek representation of private sec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ning stakehol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ck of capacity on leadership which is necessary to resolve the conflict of interest regarding policy design and implement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motivation or commitment due to different priorities, lack of incentives,  and limited resourc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asons of Policy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failure can occur as a result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 exec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 polic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 luck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ffective implementation will be viewed by policy-makers as bad execution or bad luc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-makers don’t admit  that the policy itself was defective or b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asons of Policy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failure or an implementation gap can occur when policy is imposed from the centre with no thought given to how it might be perceived or received at local lev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alance between the bottom up and top down approaches to policy and action is often necessa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could be modified or adapted in advance of its implement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asons of Policy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should involve a process of interaction between organizations whose members may have different values, perspectives and priorit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policy is to be successfully implemented then those who have responsibility for its implementation should be involved in its desig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42960" y="2999880"/>
            <a:ext cx="804384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Bookman Old Style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3" descr="شعار المجلس "/>
          <p:cNvPicPr/>
          <p:nvPr/>
        </p:nvPicPr>
        <p:blipFill>
          <a:blip r:embed="rId1"/>
          <a:stretch/>
        </p:blipFill>
        <p:spPr>
          <a:xfrm>
            <a:off x="3714840" y="928800"/>
            <a:ext cx="19047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65120"/>
            <a:ext cx="822960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igh Health Council - HHC </a:t>
            </a: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Law No. 9 for the year 1999</a:t>
            </a:r>
            <a:r>
              <a:rPr b="1" lang="en-US" sz="4800" spc="-1" strike="noStrike">
                <a:solidFill>
                  <a:srgbClr val="002060"/>
                </a:solidFill>
                <a:latin typeface="Calibri"/>
              </a:rPr>
              <a:t> </a:t>
            </a:r>
            <a:br>
              <a:rPr sz="32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05596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jectiv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To formulate the general policy of the health sector and to put forward the strategy to achieve it in order to organize and develop the health work in the Kingdom as a who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embership of HH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hairpers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The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me Minis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ice-chairperson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Minister of Heal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ember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1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er of Fi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er of Planning and International Coope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er of Social Develop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er of Lab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General Director of Royal Medical Servi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president of Private Hospital Associ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an of one of the medical faculties in the official Jordanian universities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appointed by the president every two year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president of Jordan medical associ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head of one of the health associations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appointed by the president every two yea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experts from the private sector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appointed by the president every two years.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HC Responsibilit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riodic evaluation of health policies and introducing needed amendments after implementatio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dentifying the needs of the health sector and taking decisions regarding equitable distribution of health services across the kingdo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    </a:t>
            </a: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( Jordan health map experience- equitable   distribution of public health centers and decreasing social influenc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HHC Responsibilities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71400"/>
            <a:ext cx="853452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ing work of health institutions in both public and private sectors to guarantee integration of their work 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(Regular meetings with liaison office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ying the proposed laws, bylaws, and regulations of the HHC and the health sector and submitting the necessary recommendations. 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( Medical liability law. NHA data collection byla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HC Responsibili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5345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ying problems and obstacles facing the health sector and providing statistics and data for decision making pertaining to health system restructur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Jordan HRH observatory :equitable distribution of health work force.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Jordan National Health Accounts annual technical reports (6 roun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7120" y="274680"/>
            <a:ext cx="8429760" cy="582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HA reports in Jorda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000080"/>
          <a:ext cx="8329680" cy="5486400"/>
        </p:xfrm>
        <a:graphic>
          <a:graphicData uri="http://schemas.openxmlformats.org/drawingml/2006/table">
            <a:tbl>
              <a:tblPr/>
              <a:tblGrid>
                <a:gridCol w="1890720"/>
                <a:gridCol w="1827360"/>
                <a:gridCol w="3168360"/>
                <a:gridCol w="1443240"/>
              </a:tblGrid>
              <a:tr h="112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scal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ued /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osted 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HA team Rank No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H (PHR Proje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ir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00-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H (PHR </a:t>
                      </a: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lus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Proje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ir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C (WHO 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C (WHO 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C (WHO 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-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C (WHO 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3T19:08:21Z</dcterms:created>
  <dc:creator>User</dc:creator>
  <dc:description/>
  <dc:language>en-US</dc:language>
  <cp:lastModifiedBy>USER</cp:lastModifiedBy>
  <dcterms:modified xsi:type="dcterms:W3CDTF">2013-06-05T11:36:59Z</dcterms:modified>
  <cp:revision>366</cp:revision>
  <dc:subject/>
  <dc:title>Informed health policy</dc:title>
</cp:coreProperties>
</file>